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1A0A3-9B3B-4529-A1D7-A82B7688C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B5ACB-F652-4B38-8D98-E4A82152D03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2687-339D-4703-8384-45E6BD2C3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5907-9184-45AA-A288-4EC748515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17D9-FD4C-48AE-AEE2-78FC86B2D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7D3B-19B4-44B6-850B-5EC38E792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B9212-B009-483D-A634-2C6351988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C7641-79B8-41FE-8880-F9A5F72EB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9FF2F-F8E3-4417-8778-EAA528840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BFA8B-577C-4EC6-A618-74D26C54E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0B431-822B-49D5-880F-BF0A3B61E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A98B3-25B0-44AF-8190-F565C87DA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7DB66-C94C-49D5-9144-63215F54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61A5-1AD0-4074-AD68-9728D70E0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DC239-E188-440E-88A1-7EF48D45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9C615-34DA-450C-87CF-E29D0E72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CF961-841A-47FA-818B-E347F575D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83439-23E2-4B24-A526-0D797BC7A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22B25-67AB-4555-8230-94EEF6AB8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0CEC-2DD0-4A10-8BD2-F5D0E6895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B2FA-8521-439E-A80D-7B16B6D65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52AD-175D-444E-B5CA-244B3D2C0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A398-580C-47FC-A0A3-5D78D7E4B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4B22-02E0-4E93-9B6A-7DCC775F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28CC-BAD6-4A29-B7ED-839A13AD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6BC9-07C1-48AE-90E0-B6211A19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9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8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2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2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2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2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25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27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28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29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30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34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35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36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37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38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39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40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41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42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43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44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9D548-6A0F-4709-85D6-F9C5E4718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50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5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36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37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38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20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21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22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23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27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8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9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0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31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32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33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34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35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36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37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45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46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43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F6FF5-B01D-44AC-9162-A460DB451C6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9704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Begin the Begin….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Writing promp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neatly and in complete senten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Y explain your answ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 You for following dire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320" y="762120"/>
            <a:ext cx="9144000" cy="28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EXPLAIN THE DIFFERENCE BETWEEN EXPRESSED AND IMPLIED POWERS OF CONGRESS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2" name="Picture 8" descr=""/>
          <p:cNvPicPr/>
          <p:nvPr/>
        </p:nvPicPr>
        <p:blipFill>
          <a:blip r:embed="rId2"/>
          <a:stretch/>
        </p:blipFill>
        <p:spPr>
          <a:xfrm>
            <a:off x="762120" y="3611520"/>
            <a:ext cx="2914560" cy="21765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"/>
          <p:cNvPicPr/>
          <p:nvPr/>
        </p:nvPicPr>
        <p:blipFill>
          <a:blip r:embed="rId3"/>
          <a:stretch/>
        </p:blipFill>
        <p:spPr>
          <a:xfrm>
            <a:off x="5105520" y="3581280"/>
            <a:ext cx="3852720" cy="2206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13:44:01Z</dcterms:created>
  <dc:creator>THOMAS_SAUER</dc:creator>
  <dc:description/>
  <dc:language>en-US</dc:language>
  <cp:lastModifiedBy>SysAdmin</cp:lastModifiedBy>
  <dcterms:modified xsi:type="dcterms:W3CDTF">2011-09-22T16:39:18Z</dcterms:modified>
  <cp:revision>125</cp:revision>
  <dc:subject/>
  <dc:title>D/O: TO EXPLAIN AND IDENTIFY PROBLEMS OF ECONOMICS</dc:title>
</cp:coreProperties>
</file>